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cashreg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8B05-AF01-4C69-BDEE-260A2FFC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7B59-EA2E-4289-BE67-027E758B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4ECD-C1B8-4EC2-AEB8-4E94E9EE4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526-3914-44CA-9580-2F68CA75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822A-B0E7-4CF9-AE35-E001526B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3049-0606-43FD-8AE1-90FF1D86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BDF9-4600-4AA6-B604-32352595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5CC9-FC70-4F9B-BA8F-C37922E1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757F-0073-4B7B-A79E-B73472F1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519F-13EB-4C41-ACFE-AE6C0861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677D-DECA-4B25-847D-61E29CC0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ED98-414C-4097-9510-3A77E29E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F70D-01A5-44D1-8912-905150A1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7395-21F9-46B0-B01D-82C8D0F8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8607-6B7E-40F7-8F4D-CE4311C2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6CBD-9544-40B0-B72E-BA7C7067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9A59-B419-48F8-B6E2-10707416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6A4D2-580D-4899-87A5-B99126C3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FC40F-1CE8-485A-8985-649843FF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FE622-86E5-4D04-B90C-F7E90011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EF3A3-876F-466B-B8B8-B69485C9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02127-1690-4853-B9C7-EDB21D35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50BB-406A-46B3-A5BC-D9F7BB56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2B4BC-9720-47B6-BAB8-9610EB54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D8D40-404E-4A53-95EF-49D630B7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60051-CEF7-4B32-9F33-13F51503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6D1F9-A5A6-45AB-82A2-1311A908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019B6-766B-4674-B93D-9ECEA3F8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07211-B3A1-44AA-AA86-B334B1C8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B22B5-447F-4757-BF93-B4EDF94D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FC67C-B473-4558-B4EE-204D89E7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185DE-0911-4B91-8D09-47109942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010E4-3881-4E6F-BA25-44AE55E9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E08F-80F0-4D0C-B822-A4219D4C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C5525-F90E-4B36-B508-47E45516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753C3-8BC2-4ED8-B226-6A843833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81E1D-7ABA-4374-BC7D-57AFCEBF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FE7A8-3D71-445C-8F20-DFAE0D65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401BA-EEE4-40F3-B40B-907BC76E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4E8F3-9D08-4E71-AE4F-719F1CBF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DD209-7681-4563-A8A1-5D300C2B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06171-3177-4681-899D-BE75229F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14DE4-BC4A-4254-91F2-E6D1A52B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FCC2-FEC8-4FBA-916D-71C578CF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A3A-0CCE-4B73-A44F-4FE07E40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6312-1427-4419-AB64-36AFA2E5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0163-4C4B-44F6-BAD7-85C1A0D4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2B15-485F-4D3A-BDB1-681C591C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14400"/>
            <a:ext cx="8229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40a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e840a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560" y="1379160"/>
            <a:ext cx="74170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F420-ADAD-4B19-B835-DFDB5C91703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14400"/>
            <a:ext cx="8229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40a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e840a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560" y="1379160"/>
            <a:ext cx="74170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8EDE-B294-4868-AEF2-6179CCDBDD6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14400"/>
            <a:ext cx="8229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40a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e840a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26560" y="1379160"/>
            <a:ext cx="74170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DF81-8BD9-4DA1-843B-67523D74F0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1429-1DA3-42E5-867E-519C3F220C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图片 7" descr="图片1333666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Oval 5"/>
          <p:cNvSpPr/>
          <p:nvPr/>
        </p:nvSpPr>
        <p:spPr>
          <a:xfrm>
            <a:off x="1519200" y="3319560"/>
            <a:ext cx="6858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81080" y="3352680"/>
            <a:ext cx="877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除数是小数的除法（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0" y="1600200"/>
            <a:ext cx="297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Oval 8"/>
          <p:cNvSpPr/>
          <p:nvPr/>
        </p:nvSpPr>
        <p:spPr>
          <a:xfrm>
            <a:off x="2652840" y="1600200"/>
            <a:ext cx="609480" cy="743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895480" y="2558880"/>
            <a:ext cx="3240360" cy="3240"/>
            <a:chOff x="2895480" y="2558880"/>
            <a:chExt cx="3240360" cy="3240"/>
          </a:xfrm>
        </p:grpSpPr>
        <p:sp>
          <p:nvSpPr>
            <p:cNvPr id="170" name="Line 10"/>
            <p:cNvSpPr/>
            <p:nvPr/>
          </p:nvSpPr>
          <p:spPr>
            <a:xfrm>
              <a:off x="2895480" y="2558880"/>
              <a:ext cx="3240360" cy="3240"/>
            </a:xfrm>
            <a:prstGeom prst="line">
              <a:avLst/>
            </a:prstGeom>
            <a:ln w="57240">
              <a:solidFill>
                <a:srgbClr val="8dd2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2895480" y="2558880"/>
              <a:ext cx="324036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2" name="Rectangle 11"/>
          <p:cNvSpPr/>
          <p:nvPr/>
        </p:nvSpPr>
        <p:spPr>
          <a:xfrm>
            <a:off x="2881440" y="1962000"/>
            <a:ext cx="380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966240" y="1812960"/>
            <a:ext cx="3925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三 单元    </a:t>
            </a: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数除法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1066680" y="42670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838080" y="1868400"/>
            <a:ext cx="739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自己动手做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块长方形的画板。画板长是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2m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要使画板的面积是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.14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这块画板要做多宽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标题 1"/>
          <p:cNvSpPr/>
          <p:nvPr/>
        </p:nvSpPr>
        <p:spPr>
          <a:xfrm>
            <a:off x="4428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我来做一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未标题-1"/>
          <p:cNvPicPr/>
          <p:nvPr/>
        </p:nvPicPr>
        <p:blipFill>
          <a:blip r:embed="rId2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1581120" y="28195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6÷0.2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552680" y="359100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32÷0.04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533600" y="43657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24÷0.6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533600" y="516564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7÷0.9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448160" y="35910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32÷4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=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666960" y="516564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270÷9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=3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3895560" y="28195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26÷2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=1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4124160" y="43657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2.4÷6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=0.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云形 1"/>
          <p:cNvSpPr/>
          <p:nvPr/>
        </p:nvSpPr>
        <p:spPr>
          <a:xfrm>
            <a:off x="4724280" y="636480"/>
            <a:ext cx="4103640" cy="2154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说你的想法吧？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标题 1"/>
          <p:cNvSpPr/>
          <p:nvPr/>
        </p:nvSpPr>
        <p:spPr>
          <a:xfrm>
            <a:off x="2142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考一考：我有妙招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3" descr="小数五年级上册_页面_053"/>
          <p:cNvPicPr/>
          <p:nvPr/>
        </p:nvPicPr>
        <p:blipFill>
          <a:blip r:embed="rId2"/>
          <a:srcRect l="18370" t="68167" r="16777" b="8446"/>
          <a:stretch/>
        </p:blipFill>
        <p:spPr>
          <a:xfrm>
            <a:off x="684360" y="1752480"/>
            <a:ext cx="7632720" cy="3867120"/>
          </a:xfrm>
          <a:prstGeom prst="rect">
            <a:avLst/>
          </a:prstGeom>
          <a:ln w="0">
            <a:noFill/>
          </a:ln>
        </p:spPr>
      </p:pic>
      <p:sp>
        <p:nvSpPr>
          <p:cNvPr id="185" name="标题 1"/>
          <p:cNvSpPr/>
          <p:nvPr/>
        </p:nvSpPr>
        <p:spPr>
          <a:xfrm>
            <a:off x="51912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连一连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直接连接符 1"/>
          <p:cNvSpPr/>
          <p:nvPr/>
        </p:nvSpPr>
        <p:spPr>
          <a:xfrm>
            <a:off x="1622520" y="2792520"/>
            <a:ext cx="3025800" cy="1703160"/>
          </a:xfrm>
          <a:prstGeom prst="line">
            <a:avLst/>
          </a:prstGeom>
          <a:ln w="381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直接连接符 2"/>
          <p:cNvSpPr/>
          <p:nvPr/>
        </p:nvSpPr>
        <p:spPr>
          <a:xfrm flipH="1">
            <a:off x="1600200" y="2643120"/>
            <a:ext cx="3108240" cy="1776600"/>
          </a:xfrm>
          <a:prstGeom prst="line">
            <a:avLst/>
          </a:prstGeom>
          <a:ln w="381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直接连接符 3"/>
          <p:cNvSpPr/>
          <p:nvPr/>
        </p:nvSpPr>
        <p:spPr>
          <a:xfrm>
            <a:off x="7467480" y="2819520"/>
            <a:ext cx="87480" cy="1395360"/>
          </a:xfrm>
          <a:prstGeom prst="line">
            <a:avLst/>
          </a:prstGeom>
          <a:ln w="381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1" descr="小数五年级上册_页面_049"/>
          <p:cNvPicPr/>
          <p:nvPr/>
        </p:nvPicPr>
        <p:blipFill>
          <a:blip r:embed="rId2"/>
          <a:srcRect l="9720" t="45391" r="10293" b="26934"/>
          <a:stretch/>
        </p:blipFill>
        <p:spPr>
          <a:xfrm>
            <a:off x="644400" y="2287440"/>
            <a:ext cx="7831440" cy="38055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2"/>
          <p:cNvSpPr/>
          <p:nvPr/>
        </p:nvSpPr>
        <p:spPr>
          <a:xfrm>
            <a:off x="1828800" y="1413000"/>
            <a:ext cx="5834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哪种笔记本最贵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标题 1"/>
          <p:cNvSpPr/>
          <p:nvPr/>
        </p:nvSpPr>
        <p:spPr>
          <a:xfrm>
            <a:off x="51912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436248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547640" y="549360"/>
            <a:ext cx="60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5076720" y="2206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1332000" y="1197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844560" y="1314360"/>
            <a:ext cx="754380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红色笔记本：</a:t>
            </a: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10.4÷4=2.6 </a:t>
            </a: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蓝色笔记本：</a:t>
            </a: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13.5÷5=2.7 </a:t>
            </a: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白色笔记本：</a:t>
            </a: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5.6÷2=2.8   </a:t>
            </a: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元）</a:t>
            </a: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2.6</a:t>
            </a: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＜</a:t>
            </a: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2.7</a:t>
            </a: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＜</a:t>
            </a: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2.8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答：白色笔记本最贵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6"/>
          <p:cNvSpPr/>
          <p:nvPr/>
        </p:nvSpPr>
        <p:spPr>
          <a:xfrm>
            <a:off x="1447920" y="1752480"/>
            <a:ext cx="60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15" descr="小数五年级上册_页面_054"/>
          <p:cNvPicPr/>
          <p:nvPr/>
        </p:nvPicPr>
        <p:blipFill>
          <a:blip r:embed="rId2"/>
          <a:srcRect l="14059" t="20761" r="11368" b="63098"/>
          <a:stretch/>
        </p:blipFill>
        <p:spPr>
          <a:xfrm>
            <a:off x="684360" y="2057400"/>
            <a:ext cx="7632720" cy="2320920"/>
          </a:xfrm>
          <a:prstGeom prst="rect">
            <a:avLst/>
          </a:prstGeom>
          <a:ln w="0">
            <a:noFill/>
          </a:ln>
        </p:spPr>
      </p:pic>
      <p:sp>
        <p:nvSpPr>
          <p:cNvPr id="199" name="标题 1"/>
          <p:cNvSpPr/>
          <p:nvPr/>
        </p:nvSpPr>
        <p:spPr>
          <a:xfrm>
            <a:off x="51912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数学医院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文本框 2"/>
          <p:cNvSpPr/>
          <p:nvPr/>
        </p:nvSpPr>
        <p:spPr>
          <a:xfrm>
            <a:off x="911160" y="4478400"/>
            <a:ext cx="90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文本框 1"/>
          <p:cNvSpPr/>
          <p:nvPr/>
        </p:nvSpPr>
        <p:spPr>
          <a:xfrm>
            <a:off x="6491160" y="4478400"/>
            <a:ext cx="90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文本框 3"/>
          <p:cNvSpPr/>
          <p:nvPr/>
        </p:nvSpPr>
        <p:spPr>
          <a:xfrm>
            <a:off x="4119480" y="4478400"/>
            <a:ext cx="9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666880" y="2022480"/>
            <a:ext cx="426744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5.4 ÷ 0.45=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10.5 ÷ 0.75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标题 1"/>
          <p:cNvSpPr/>
          <p:nvPr/>
        </p:nvSpPr>
        <p:spPr>
          <a:xfrm>
            <a:off x="45396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我会验算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4495680" y="2209680"/>
            <a:ext cx="41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2057400" y="2251080"/>
            <a:ext cx="518148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微软雅黑"/>
                <a:ea typeface="微软雅黑"/>
              </a:rPr>
              <a:t>58.8 ÷ 2.8 ÷ 7=         53 ÷ 0.25 ÷ 4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标题 1"/>
          <p:cNvSpPr/>
          <p:nvPr/>
        </p:nvSpPr>
        <p:spPr>
          <a:xfrm>
            <a:off x="51912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我会计算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1066680" y="42670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838080" y="1709640"/>
            <a:ext cx="7848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张大叔家原来年收入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55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元。新农村建设以来，他家收入有了很大提高，今年收入达到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31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元。今年张大叔家的收入是原来的多少倍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标题 1"/>
          <p:cNvSpPr/>
          <p:nvPr/>
        </p:nvSpPr>
        <p:spPr>
          <a:xfrm>
            <a:off x="4762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我来帮一帮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文本框 1"/>
          <p:cNvSpPr/>
          <p:nvPr/>
        </p:nvSpPr>
        <p:spPr>
          <a:xfrm>
            <a:off x="1420920" y="4702320"/>
            <a:ext cx="62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2.31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÷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0.55=4.2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倍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/>
  <dcterms:modified xsi:type="dcterms:W3CDTF">2017-11-07T22:39:11Z</dcterms:modified>
  <cp:revision>0</cp:revision>
  <dc:subject> </dc:subject>
  <dc:title> </dc:title>
</cp:coreProperties>
</file>